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F2E-5928-4643-AD0D-72912AB3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A84-113E-4684-A07C-28702FC8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1C5-4333-4841-A0AF-81B84258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7FEC-8908-4BF3-AC41-E1124803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B8C8-59F7-4D16-947A-3AC7AF99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B774-F376-4A51-AEB0-87C5C6D5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722C-4E02-4DDA-97D7-A8CE5A19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21A3-B4FD-461A-AEEB-7DEA9648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4707-6B47-4A2B-8EE4-308A0C91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883E-C36F-40E3-8779-5185309C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9187-CE99-4D83-AF90-F62E1AFB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C9F9-4CD3-4A6C-9D5A-180ED9D1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9458-3493-42D1-A2EF-77B5A038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A833-C8CC-4A15-8207-BE313168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AA53-95AB-4738-B8CA-83B72DC7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E500-E2FA-425D-9416-6A500966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C7AA-410B-42B2-BC68-62CF2362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E82-ACC1-45A0-B8D6-7C7F2669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34C-0829-4B83-85B4-3D823E6D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462-22C6-4E1B-B33E-252E812D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A73F-E2DF-4530-ABC4-4E44CF35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B37-F0EA-4B07-B7D3-CB760B7C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888-E266-479A-BFE3-499EE96B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AF3-EDA9-4464-8697-6AC39464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7ED4-5A14-42AD-B76A-F17025F2F0E0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CD89-3488-400C-A74F-6BCE9047D25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" name=""/>
          <p:cNvGrpSpPr/>
          <p:nvPr/>
        </p:nvGrpSpPr>
        <p:grpSpPr>
          <a:xfrm>
            <a:off x="76320" y="76320"/>
            <a:ext cx="3124080" cy="609480"/>
            <a:chOff x="76320" y="76320"/>
            <a:chExt cx="3124080" cy="609480"/>
          </a:xfrm>
        </p:grpSpPr>
        <p:graphicFrame>
          <p:nvGraphicFramePr>
            <p:cNvPr id="34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" name=""/>
            <p:cNvSpPr/>
            <p:nvPr/>
          </p:nvSpPr>
          <p:spPr>
            <a:xfrm>
              <a:off x="533520" y="152280"/>
              <a:ext cx="2666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BBF1-A4AA-4195-88DE-C7D2AC0FAB24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483C-5257-4A2F-973B-34FE13AEDB4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6320" y="76320"/>
            <a:ext cx="2895480" cy="609480"/>
            <a:chOff x="76320" y="76320"/>
            <a:chExt cx="2895480" cy="609480"/>
          </a:xfrm>
        </p:grpSpPr>
        <p:graphicFrame>
          <p:nvGraphicFramePr>
            <p:cNvPr id="109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533520" y="152640"/>
              <a:ext cx="2438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chilecompras.cl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ramitefacil.gob.cl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Gobierno Electrónic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yecto de Reforma y Modernización del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sterio Secretaría General de la Presid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89CE-61E2-4E4C-9327-93EE8E4EA8A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FA3370B-FDDD-4692-81B6-4E04AC161650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Buen Gobier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diseño y simplificación de procesos apoyados por las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gramas continuos de enseñanza y entr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sponer de sistemas de información que apoyen funciones internas. Permitir, facilitar y promover comunicaciones mediante uso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servicios a otras reparticiones. Conexión y utilización de red del Ministerio del In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roducir indicador de gestión de porcentaje de trámites brindados electrónica y presencial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cluir impacto en la organización producido por el desarrollo de los proyectos que usen NTICs. Enfasis en impacto en funcion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ción de estándares de la industria NTICs. Imagén común en Internet, uso progresivo de .gov.cl y .gob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gregación de demanda para conseguir eficiencia en recursos financieros. Contratación conjunta de desarrollo de proye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F88-E10A-4750-8949-9287C5ED259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AD506-069B-4FD4-BCC1-C2A923D28B7F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sarrollo de la Democracia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tar medidas para facilitar a la ciudadanía información pertinente, la consideración de sus opiniones y sugerencias, e instancias de participación ciudadana y la transpa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arrollar páginas web informativas de fácil acceso y comprensivas, vinculando esta información a portales de búsqueda generales, tanto públicos como priv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retaría General de Gobierno velará por estándares de contenido de las páginas web de los diversos Servicios y Ministerios, asegurando el acceso a los ciudadanos a la información general y específica sobre la acción del Gobi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14B2-F821-4EA3-AE18-55C3E06EA44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906AE-7593-402F-8795-EC9E4CD80868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- Generales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guimiento y Coordinación del cumplimiento de las instrucciones en SEGPRES a cargo del PR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neración de antecedentes de inversión y gasto anuales en NTICs, a cargo de la Dirección de Presupue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n que señale cómo se aplicará Instructivo en los Servicios, a cargo de cada Jefe de Servicio. Agosto próx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AABA-A27F-446B-B0F9-77AAE188FC3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01F0D-ABFA-4C9B-A884-D57A1F7A2592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Trámites en líne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Trám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Empre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Gobiernode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mpuestos In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Adua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Tesorer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gistro Civ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Fon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hileComp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RN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B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Vivi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Edu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Obras Públ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ción Vi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per Isap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pre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.Mov.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te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715000"/>
            <a:ext cx="792504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tranet del Estado ( Min. Interior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05F-F10A-4B24-B455-30E92FAC2DE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68874-5B27-4E41-A55B-883A6273C8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mentos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ra el Gobierno Electróni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97F6-E6AC-4C96-B501-499F177FF78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8D3FBCB-6142-4CD5-A0A1-AF8A738B6F73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Legales y Administrativ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Firma Digital, presentado en Agosto 2000 y aprobado por unanimidad en la Cámara de Diput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Dirección de Compras Públicas, se firmó indicación sustitutiva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structivo Presidencial de Gobierno Electrónico, suscrito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81 – 1999 de la SEGPRES, que regula el uso de la firma digital en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1.312 – 1999, establece sistema de información compras y contrataciones públicas – </a:t>
            </a:r>
            <a:r>
              <a:rPr b="0" lang="es-CL" sz="20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www.chilecompras.c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.S. 54 –2001 que permite la suscripción de acuerdos mar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MG 2001, obligación de incorporación de parte los Servicios al Sistema de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878E-6DF0-4E2A-9FC4-793BAF55337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0F1DC-C8AA-486A-9ED0-B33AB90932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Fomen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sionamiento de Infraestructura Tecnológica: se ha evaluado técnica y jurídicamente la factibilidad de concesionar Ventanillas Unicas, bajo el marco de Concesionamiento del Ministerio de Obras Públ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trocinio a eventos de empresas tecnológicas privadas orientados a mostrar soluciones a Instituciones Públicas – Oracle, elvoucher.com, ACT, empatia, Metrodigital, separende.com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B2E-4ED2-4134-8F73-E22AFB72586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B276C-06E1-472F-8600-1010DCDDB5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ortal del Trámit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</a:t>
            </a:r>
            <a:r>
              <a:rPr b="0" lang="es-ES" sz="2000" spc="-1" strike="noStrike" u="sng">
                <a:solidFill>
                  <a:srgbClr val="f98d43"/>
                </a:solidFill>
                <a:uFillTx/>
                <a:latin typeface="Trebuchet MS"/>
                <a:ea typeface="Times New Roman"/>
                <a:hlinkClick r:id="rId2"/>
              </a:rPr>
              <a:t>www.tramitefacil.gob.cl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,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ont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ene la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formación sobre trámites de los Servicios Públicos, con sistemas de búsqueda orientados al usuario. Se inicia con 675 trámites.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cluye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los formularios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digitalizados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más utilizados en cada Servicio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. Además, considera c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nexión a las transacciones en línea que actualmente tienen los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Ventanilla Únic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u objetivo es realizar en una transacción una colección de trámites en forma electrónica (llamado “requerimiento”), que involucra a más de una repartición pública y puede involucrar a organismos privados, a fin de atender requerimientos de los ciudadanos. Se han identificado y estudiado más de 40 requerimientos y se decidirá prontamente con cuáles comenz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Infraestructura de Acces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han habilitado alrededor de 200 Infocentros -públicos y privados- a lo largo del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2F29-8171-4DB8-B18C-744CBE76487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6DE1A-05C5-4C5D-8D7D-E48AB117F1F6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rograma de Formación de los Recursos Humanos para el Gobierno Electrónic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Fortalecimiento de las Unidades de Gestión Electrónic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Intranet del E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Uso de las TI en IntraEstad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de Información para la Gestión Financiera (SIGF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Nacional de Información Territorial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ChileCompr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stión Intern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178-CC54-4C64-A4A2-23D3CBE7E2CD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CDDD2-6F3C-4554-B971-938F9D00F2F6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les Gobiernode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áginas web de los Servicio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228600" y="578160"/>
            <a:ext cx="95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sarrollo de la Democraci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4E59-7969-412D-B636-34386AE52D2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D18E8-E1F2-4F31-8E99-1CF00A2D4C57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 Reform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 Proyecto de Reforma y Modernización del Estado es parte del amplio proceso de cambios impulsado por el Presidente Lagos, que incluy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Ciu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s Polí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l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ación de las Reformas Judicial y Educ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46A-2966-4C4B-AE92-6A75CF9C8E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F48C4-A10F-49B1-9251-CD5DD5013E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bjetivo de la Reforma del Estado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El proyecto de Reforma y Modernización del Estado tiene como objetivo generar durante el mandato del Presidente Lagos, un Estado de servicio a los ciudadanos, debiendo contar para ello con una estructura flexible y con una gestión eficiente, participativa y transparen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ios orient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democrático y participativ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transparent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unitario descentralizad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solid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lexible para enfrentar requerimientos presentes y futur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uerte, eficiente y eficaz que asegure calidad de vida y desarroll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ustentabl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normativo y subsidi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FF51-4F26-473E-8C32-7596E2FB617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2615A-9375-4D6E-847D-A9D0CC9336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8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es del Proyecto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- Reformas Polític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- Rediseño Institucional: áre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Polít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inisterios Coordinadores, Interior, Justi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Económ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Triministerio, regulación, fomento productivo, empresas públicas, institucionalidad agrícola, ciencia y tecnología, 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Infraestructu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OPTT y Biministerio Vivienda y Urbanismo y Bienes Na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Soci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Institucionalidad Salud, Educación, Asuntos Sociales, Mujer y Cultu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- Descentralizació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pectos institucionales y planes regionales de modern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- Modernización de la Gestión Pública y Gobiern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Nuevo Trato y Dirección Púb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lidad de servici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Programa de Trámites, Cartas de Derechos, OIRS, Prem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estión de los servici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Unidad de sistematización de experiencias del sector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obierno Electróni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Buen gobierno, atención a los usuarios y más democra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- Participación ciudadana y Transparencia en la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s institucionales para la participación y Defensor del Ciudada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a de transparencia y prob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A8C-8585-4EA8-9A95-9B1740D58BF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9D615-8BC0-49ED-B773-A171F142D2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OBIERNO ELECTRONICO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finición 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o de las Tecnologías de Información y Comunicaciones para mejorar los servicios e información ofrecidos a los ciudadanos, aumentar la eficiencia y la eficacia de la gestión pública e incrementar sustantivamente la transparencia del sector público y la transparencia ciudadan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1A9A-413A-4BA6-A465-9241D2D32A6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70B41-AC1D-493A-87B4-FC4A9C5DF3B8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ISION ORIENTADOR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tención en cualquier oficina de un Servicio autorizado a brindarla. Independencia jurisdiccional y resid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manda de servicios sobre la base de necesidades en lugar de conocimiento de la estructura del Estado: mirada ciudad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lo se exigirá presentación de cédula de identidad y de antecedentes que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obren en poder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informarán al Estado sólo una vez que haya cambios relevantes de su situación de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iudadanos son libres para acceder y consultar información de actos públicos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sistemas de información del Estado deberán estar relacionados entre sí y orientados a atender al ciudad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tienen derecho a conocer y modificar la información que de ellos posee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61B-087C-4C1E-9517-E04466D36FC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BBC1D-9798-4320-8033-2AED77A81208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incipios Orientador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ransformad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cación sustantiva de los procedimientos ac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 alcance de to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quién, dónde y cuán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ácil de us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s y senci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yor Benef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ecto a forma pres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guridad, Privacidad y Registr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l del Sector priva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yados en el sector privados mediante procesos competi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oncentr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ción, mantención y actualización de las TI a cargo de los Servicios e interoperabilidad entre e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Jurisdicción Electró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ción de los Servicios para que las transacciones puedan ser efectuadas desde cualquier punto del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volutiv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proceso: (1) Presencia; (2) Interacción; (3) Transacción y; (4) Trans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302-4E3E-4ABC-952C-5D698BD8D97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FC0C6-7643-46B8-8851-9290AE3911A2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Ámbit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Atención al ciudada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uevas formas de relación Gobierno / ciudadano mediante el uso de TI, que permitan al Estado brindar sus servicios en forma más eficiente, eficaz y con independencia del lugar fís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unitario, descentralizado, solidario y flexibl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Buen Gobier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tablecimiento e introducción de nuevas formas y procesos internos en la Administración del Estado que permitan la integración de los sistemas de diferentes Servicios, compartir recursos y el mejoramiento de la gestión interna de los mism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flexible, transparente, unitario, descentraliz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Desarrollo de la Democraci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reación de mecanismos que, usando TI, permitan al ciudadano jugar un rol activo en el quehacer del país, permitiendo abrir nuevos espacios y formas de particip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más participativo, transparente y democrá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67F5-7326-4209-8B5D-E04DD4C9921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DF64D-D28D-401D-AF4A-6A9BEFEBD9ED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o progresivo e interrelacionado de las N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mentar y promover acceso de los ciudad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tegración entre Servi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ientación hacia Ventanillas Unicas, preferentemente privadas y con estándares de calidad defin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quisitos al desarrollar Ventanillas Un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ción vía cédula de identidad o clave de acceso  basada en en el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torizaciones electrónicas basadas en el nivel de seguridad que aspira o está obligado el ciudad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E96-2FE8-4486-8668-A4AFBE310E5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18025-024E-4A9B-BF37-D63415837B32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14:53:01Z</dcterms:created>
  <dc:creator>Felipe Goya</dc:creator>
  <dc:description/>
  <dc:language>en-US</dc:language>
  <cp:lastModifiedBy>MRiera</cp:lastModifiedBy>
  <cp:lastPrinted>2001-07-16T20:54:41Z</cp:lastPrinted>
  <dcterms:modified xsi:type="dcterms:W3CDTF">2001-07-24T20:30:32Z</dcterms:modified>
  <cp:revision>158</cp:revision>
  <dc:subject/>
  <dc:title>Proyecto de Reforma y Modernización del Estado</dc:title>
</cp:coreProperties>
</file>